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</p:sldIdLst>
  <p:sldSz cx="12239625" cy="70199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12000" y="376956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9E358-7EFB-4A28-85BA-F350CD77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72247-3382-4460-AC24-256887EA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12000" y="280080"/>
            <a:ext cx="110156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1511F-F18E-438A-AE54-CE0A926D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B264C-F021-44EB-91C4-9B318984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568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F9748-0810-4943-89FB-82955092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A9D9A-5B23-45AB-8094-85AEF4A2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12000" y="376956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401A8-8FC1-446D-9600-158399B1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2568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3A593-EC62-4B34-A4F9-EBBFC6FE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33656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06076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1200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33656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06076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442E3-411A-4CB4-9F9A-3150BB45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832E1-8CA9-4674-983B-35BCE2F6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568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12000" y="1642680"/>
            <a:ext cx="110156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1FB5A-CAAD-4771-807A-C842E1E5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110156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29685-2BAF-45E9-8CF1-0AD082E0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C51EB-D960-4832-B19B-11FD15B8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38AC8-3E54-4788-A996-A2754852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12000" y="280080"/>
            <a:ext cx="110156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B249B-035C-474E-923E-49ACA0E6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A5A7B-E32D-445D-BA3F-1E0EC8E2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568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C520D-5433-4A44-A07E-D13799C8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FF572-4660-4519-A52A-0E47D270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12000" y="376956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F8A5D-3B37-41C3-ADD6-D7FF3A58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2568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B8B6B-C278-4E78-862B-9E7D386F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3656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6076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1200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3656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6076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3656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06076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1200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433656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806076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B973F-DFB2-4A6D-BA55-D77C4199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3A57B-E7CE-48E9-BB3D-070A5F06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12000" y="1642680"/>
            <a:ext cx="110156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3A040-E48D-49E6-9013-EFC3D426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110156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22E33-1CC0-4A2C-96B7-C9740968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C9418-C6AF-4DD0-A0F1-9E2A8AA6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E9476-17CA-4A29-AA4C-2E4CE1DD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612000" y="280080"/>
            <a:ext cx="110156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DB1A7-E428-4D8B-BBE5-E5FB40ED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B0E29-0C6F-48C8-B63F-AF7A1B07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2568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39D2B-F491-4DE1-AE58-D0FC782B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07BCD-875A-4625-875D-C01706F3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DC7D-CA17-4251-9DF7-74C0A599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12000" y="376956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5B9B3-7B97-4385-9CCE-C2E7D814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2568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28468-478C-4522-ACE4-6CC23795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33656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06076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1200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33656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806076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D24A2-9919-4193-9695-6538A5D9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C7B8C-654B-46AC-98FF-E644281B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12000" y="1642680"/>
            <a:ext cx="110156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40200-D983-4D7B-B414-A703B65C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110156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60E73-0DF7-4824-9B94-F2FCB261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89845-733B-49CF-B0F9-3D3A1517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C67B3-AAB9-456F-9B84-F0D9E06E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612000" y="280080"/>
            <a:ext cx="110156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0CFC3-DF6A-4AD0-A4DC-97EB5C4D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53213-01CD-43D8-AFE8-CF9E8AC7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12000" y="1642680"/>
            <a:ext cx="110156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6970-692F-4004-BF2F-3E184595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568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022B5-356C-46BB-8F8F-0E2D7E98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C5439-993D-449C-9C50-049AD64C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12000" y="376956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05766-3765-427F-9281-EDB09D54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2568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2CA5E-D08F-4DD8-89A8-A9C4419C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33656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06076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1200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33656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806076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04ED3-4665-4CE6-B4A3-F6D96FDB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110156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AFBA-14C5-4627-8929-CE53805B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FD45-6D98-461E-B9E0-7941F29B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A825-68A8-49C5-8204-6CEA95D8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12000" y="280080"/>
            <a:ext cx="110156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E6DB-1772-4365-B947-746BB29A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6722-A144-48E8-A009-656BC112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12000" y="1642680"/>
            <a:ext cx="110156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568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591C-FD60-475C-94D5-F3F9E635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9F9D-69ED-45BD-8F5E-79F07D2A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12000" y="376956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C6E8-4D13-4A63-A8EC-F594D8CD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568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69FA-C1CE-4AF5-AA23-EDE5CFBD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3656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076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1200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3656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6076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4A02-C782-4934-9B8C-D55A764C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D55A-EC6A-4C38-9331-58827D16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2000" y="1642680"/>
            <a:ext cx="110156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6E46-1A2B-4694-9974-0193EFBE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110156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22DE-3C86-4228-AE09-AC86CC0A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333C-FDFF-46C3-AA58-FA61E50D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C01B-8278-423B-A3D9-49F8330B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110156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12000" y="280080"/>
            <a:ext cx="110156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1A46-EC16-47FE-B34C-44C0293D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2E8F-D4A1-4029-8FE5-E8F46215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568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8B2C-9B0E-443A-8361-11A07C0C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8F65-22F4-48BD-923A-AB0872F2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12000" y="376956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9A08-CF39-44B9-AFFB-7922670D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568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1ADD-E6FC-4F45-BB69-31A1AF6E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3656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06076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1200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3656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806076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4E0E-9700-45D9-94C0-27C7C2F49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85F3F-39C9-4749-8CBC-77798F84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12000" y="1642680"/>
            <a:ext cx="110156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F4E88-31CD-4624-A5FB-4E151672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110156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402C1-5947-4F42-8199-0C2D962B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E6D2E-F301-4625-9640-0F397153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0D7CE-A425-442F-AA89-D740CD8A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12000" y="280080"/>
            <a:ext cx="110156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5A0FD-E854-4AC0-BE4F-178C35CF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046DC-804A-481C-9B8B-60015390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568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64FBE-53D1-4E6E-AF8D-9FE809BB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4D4B5-CC1F-4F9D-9FCE-F919C07D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12000" y="376956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D8234-23CB-422A-AEFF-22501EF5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568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FA18E-C903-4C7F-A72D-2FC2A175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3656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06076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1200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3656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806076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A5E1B-E4A8-4136-B650-EEB116F4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927C7-C473-41DE-BE68-7563E29D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12000" y="1642680"/>
            <a:ext cx="110156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6A45E-6742-408A-B82D-4BDE8906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110156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3152C-9B38-4E30-9526-A60E7791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1B4D7-D97B-4286-8AF5-881D7FC0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A1958-53D4-4507-BF01-364F68FE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12000" y="280080"/>
            <a:ext cx="110156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AD35E-5134-4F21-8D40-2E38C3C4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E0888-16C2-4758-9A1E-66BB0846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68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B46E0-72D5-43EC-BED0-81DAF7AE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8486C-D730-4793-85C2-B4995E2B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12000" y="376956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A0C09-48DA-4196-89C5-D8AAE8D7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568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86E00-9B67-4CD7-826D-3E97E831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12000" y="280080"/>
            <a:ext cx="110156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3656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06076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1200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33656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806076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582DD-48F4-4C40-BEFB-F8A429F2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9FA83-5D6E-44DD-ADA3-5C15F607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12000" y="1642680"/>
            <a:ext cx="110156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77C80-59A8-4B9A-BFCF-58F9C9E1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110156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93F27-51DE-4D3B-A1CD-BD381D83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DBC47-35C2-4EB1-8498-636E804F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1EF03-001E-45BE-9BB9-23FA81BF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12000" y="280080"/>
            <a:ext cx="110156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95CD8-81F4-4805-BFD4-D1DD28DC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16443-193C-4B36-B0D8-8D6B2A06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568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55144-0F7C-45FC-96D7-674963D5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C73F6-97C2-4D5C-9730-B64D1183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12000" y="376956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2A3E4-E0E1-44F3-A57A-288A954A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568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04DCD-D09C-4F35-A6B8-258733A9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33656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06076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1200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433656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806076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2C992-34F0-4F32-BD14-D1868026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087AA-36AE-4600-BE77-855234DE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12000" y="1642680"/>
            <a:ext cx="110156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F0DAF-3F8D-43DA-AD8D-E05DF1A7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110156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0F8D6-3C41-4A4D-8F56-8D3B48B3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E7BCB-A34E-4DAD-BF12-D1C0A16B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F458E-076C-42A8-A7CD-D750EE30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12000" y="280080"/>
            <a:ext cx="110156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94724-6E67-4D9E-8CF6-2ECD4B60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CECC9-1F1E-411D-8F9C-4B160A95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568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568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DF1BC-2BD4-4BF1-80C9-02A2724F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4BE9C-EA87-4CBF-AF6C-DA89EA85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12000" y="376956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EE821-E2E6-4EFA-A235-48588BE0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568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1E84E-AD2C-4027-9770-50E6FEDE3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33656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06076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1200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433656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806076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96EC4-BBD6-4FF3-A5BE-EBA50C60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F4367-DE18-4E71-A922-111C0057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12000" y="1642680"/>
            <a:ext cx="110156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E7685-84CC-4930-B92C-F90B4E4C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110156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88B7A-7529-4AAB-869D-FE276D9C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4FEB6-27FF-49CA-A6D8-758B700F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D1E5A-9C8F-4B30-8D8A-57F405F6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12000" y="280080"/>
            <a:ext cx="1101564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6BA2D-A78D-48A7-BFFD-7696C4A3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C1E17-3709-4630-8F9E-7FD185E8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2568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D4788-0A31-4F1C-8CEB-F2D4E1E3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DF7F4-799B-4608-A464-23A39497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12000" y="3769560"/>
            <a:ext cx="1101564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96CE1-ED55-476C-9516-2825DE2A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56800" y="164268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0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256800" y="3769560"/>
            <a:ext cx="53755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099B6-3C5B-4016-901F-408C5BD6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33656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8060760" y="164268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1200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433656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8060760" y="3769560"/>
            <a:ext cx="3546720" cy="19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F7809-DFA6-4938-9C8E-B5BCFA7A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29093-585C-447E-A7E9-64A64392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12000" y="1642680"/>
            <a:ext cx="110156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18E5A-6050-4300-A36E-C942480B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000" y="1642680"/>
            <a:ext cx="110156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E6493-C70B-41BC-BBCE-607FD361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C:\Users\Administrator\AppData\Roaming\Tencent\Users\64561958\QQ\WinTemp\RichOle\U[DY%FFOIREARK2S786WRYL.png"/>
          <p:cNvPicPr/>
          <p:nvPr/>
        </p:nvPicPr>
        <p:blipFill>
          <a:blip r:embed="rId2"/>
          <a:stretch/>
        </p:blipFill>
        <p:spPr>
          <a:xfrm>
            <a:off x="7937640" y="6435720"/>
            <a:ext cx="4016160" cy="538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382680" y="135000"/>
            <a:ext cx="1052280" cy="866880"/>
          </a:xfrm>
          <a:prstGeom prst="rect">
            <a:avLst/>
          </a:prstGeom>
          <a:ln w="0">
            <a:noFill/>
          </a:ln>
        </p:spPr>
      </p:pic>
      <p:sp>
        <p:nvSpPr>
          <p:cNvPr id="2" name="直接连接符 9"/>
          <p:cNvSpPr/>
          <p:nvPr/>
        </p:nvSpPr>
        <p:spPr>
          <a:xfrm>
            <a:off x="0" y="1023840"/>
            <a:ext cx="12241080" cy="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" descr="C:\Users\Administrator\AppData\Roaming\Tencent\Users\64561958\QQ\WinTemp\RichOle\U[DY%FFOIREARK2S786WRYL.png"/>
          <p:cNvPicPr/>
          <p:nvPr/>
        </p:nvPicPr>
        <p:blipFill>
          <a:blip r:embed="rId2"/>
          <a:stretch/>
        </p:blipFill>
        <p:spPr>
          <a:xfrm>
            <a:off x="7937640" y="6435720"/>
            <a:ext cx="4016160" cy="538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" descr=""/>
          <p:cNvPicPr/>
          <p:nvPr/>
        </p:nvPicPr>
        <p:blipFill>
          <a:blip r:embed="rId3"/>
          <a:stretch/>
        </p:blipFill>
        <p:spPr>
          <a:xfrm>
            <a:off x="382680" y="135000"/>
            <a:ext cx="1052280" cy="866880"/>
          </a:xfrm>
          <a:prstGeom prst="rect">
            <a:avLst/>
          </a:prstGeom>
          <a:ln w="0">
            <a:noFill/>
          </a:ln>
        </p:spPr>
      </p:pic>
      <p:sp>
        <p:nvSpPr>
          <p:cNvPr id="379" name="直接连接符 9"/>
          <p:cNvSpPr/>
          <p:nvPr/>
        </p:nvSpPr>
        <p:spPr>
          <a:xfrm>
            <a:off x="0" y="1023840"/>
            <a:ext cx="12241080" cy="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612360" y="6506640"/>
            <a:ext cx="28558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4183200" y="6506640"/>
            <a:ext cx="38750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8772120" y="6506640"/>
            <a:ext cx="28558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38BA-79DD-4943-8DE6-C136B37F6AE1}" type="slidenum">
              <a:rPr b="0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" descr="C:\Users\Administrator\AppData\Roaming\Tencent\Users\64561958\QQ\WinTemp\RichOle\U[DY%FFOIREARK2S786WRYL.png"/>
          <p:cNvPicPr/>
          <p:nvPr/>
        </p:nvPicPr>
        <p:blipFill>
          <a:blip r:embed="rId2"/>
          <a:stretch/>
        </p:blipFill>
        <p:spPr>
          <a:xfrm>
            <a:off x="7937640" y="6435720"/>
            <a:ext cx="4016160" cy="5382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" descr=""/>
          <p:cNvPicPr/>
          <p:nvPr/>
        </p:nvPicPr>
        <p:blipFill>
          <a:blip r:embed="rId3"/>
          <a:stretch/>
        </p:blipFill>
        <p:spPr>
          <a:xfrm>
            <a:off x="382680" y="135000"/>
            <a:ext cx="1052280" cy="866880"/>
          </a:xfrm>
          <a:prstGeom prst="rect">
            <a:avLst/>
          </a:prstGeom>
          <a:ln w="0">
            <a:noFill/>
          </a:ln>
        </p:spPr>
      </p:pic>
      <p:sp>
        <p:nvSpPr>
          <p:cNvPr id="421" name="直接连接符 9"/>
          <p:cNvSpPr/>
          <p:nvPr/>
        </p:nvSpPr>
        <p:spPr>
          <a:xfrm>
            <a:off x="0" y="1023840"/>
            <a:ext cx="12241080" cy="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612360" y="6506640"/>
            <a:ext cx="28558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4183200" y="6506640"/>
            <a:ext cx="38750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8772120" y="6506640"/>
            <a:ext cx="28558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DF9A-4EE6-4592-B391-6ABD39E5C764}" type="slidenum">
              <a:rPr b="0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" descr="C:\Users\Administrator\AppData\Roaming\Tencent\Users\64561958\QQ\WinTemp\RichOle\U[DY%FFOIREARK2S786WRYL.png"/>
          <p:cNvPicPr/>
          <p:nvPr/>
        </p:nvPicPr>
        <p:blipFill>
          <a:blip r:embed="rId2"/>
          <a:stretch/>
        </p:blipFill>
        <p:spPr>
          <a:xfrm>
            <a:off x="7937640" y="6435720"/>
            <a:ext cx="4016160" cy="5382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" descr=""/>
          <p:cNvPicPr/>
          <p:nvPr/>
        </p:nvPicPr>
        <p:blipFill>
          <a:blip r:embed="rId3"/>
          <a:stretch/>
        </p:blipFill>
        <p:spPr>
          <a:xfrm>
            <a:off x="382680" y="135000"/>
            <a:ext cx="1052280" cy="866880"/>
          </a:xfrm>
          <a:prstGeom prst="rect">
            <a:avLst/>
          </a:prstGeom>
          <a:ln w="0">
            <a:noFill/>
          </a:ln>
        </p:spPr>
      </p:pic>
      <p:sp>
        <p:nvSpPr>
          <p:cNvPr id="463" name="直接连接符 9"/>
          <p:cNvSpPr/>
          <p:nvPr/>
        </p:nvSpPr>
        <p:spPr>
          <a:xfrm>
            <a:off x="0" y="1023840"/>
            <a:ext cx="12241080" cy="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612360" y="6506640"/>
            <a:ext cx="28558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4183200" y="6506640"/>
            <a:ext cx="38750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8772120" y="6506640"/>
            <a:ext cx="28558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6358-8604-49FD-A42E-36291FDF5D39}" type="slidenum">
              <a:rPr b="0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C:\Users\Administrator\AppData\Roaming\Tencent\Users\64561958\QQ\WinTemp\RichOle\U[DY%FFOIREARK2S786WRYL.png"/>
          <p:cNvPicPr/>
          <p:nvPr/>
        </p:nvPicPr>
        <p:blipFill>
          <a:blip r:embed="rId2"/>
          <a:stretch/>
        </p:blipFill>
        <p:spPr>
          <a:xfrm>
            <a:off x="7937640" y="6435720"/>
            <a:ext cx="4016160" cy="5382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" descr=""/>
          <p:cNvPicPr/>
          <p:nvPr/>
        </p:nvPicPr>
        <p:blipFill>
          <a:blip r:embed="rId3"/>
          <a:stretch/>
        </p:blipFill>
        <p:spPr>
          <a:xfrm>
            <a:off x="382680" y="135000"/>
            <a:ext cx="1052280" cy="866880"/>
          </a:xfrm>
          <a:prstGeom prst="rect">
            <a:avLst/>
          </a:prstGeom>
          <a:ln w="0">
            <a:noFill/>
          </a:ln>
        </p:spPr>
      </p:pic>
      <p:sp>
        <p:nvSpPr>
          <p:cNvPr id="41" name="直接连接符 9"/>
          <p:cNvSpPr/>
          <p:nvPr/>
        </p:nvSpPr>
        <p:spPr>
          <a:xfrm>
            <a:off x="0" y="1023840"/>
            <a:ext cx="12241080" cy="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612360" y="6506640"/>
            <a:ext cx="28558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4183200" y="6506640"/>
            <a:ext cx="38750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8772120" y="6506640"/>
            <a:ext cx="28558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7466-7B79-4486-A4D0-87657F8203C3}" type="slidenum">
              <a:rPr b="0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C:\Users\Administrator\AppData\Roaming\Tencent\Users\64561958\QQ\WinTemp\RichOle\U[DY%FFOIREARK2S786WRYL.png"/>
          <p:cNvPicPr/>
          <p:nvPr/>
        </p:nvPicPr>
        <p:blipFill>
          <a:blip r:embed="rId2"/>
          <a:stretch/>
        </p:blipFill>
        <p:spPr>
          <a:xfrm>
            <a:off x="7937640" y="6435720"/>
            <a:ext cx="4016160" cy="538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"/>
          <p:cNvPicPr/>
          <p:nvPr/>
        </p:nvPicPr>
        <p:blipFill>
          <a:blip r:embed="rId3"/>
          <a:stretch/>
        </p:blipFill>
        <p:spPr>
          <a:xfrm>
            <a:off x="382680" y="135000"/>
            <a:ext cx="1052280" cy="866880"/>
          </a:xfrm>
          <a:prstGeom prst="rect">
            <a:avLst/>
          </a:prstGeom>
          <a:ln w="0">
            <a:noFill/>
          </a:ln>
        </p:spPr>
      </p:pic>
      <p:sp>
        <p:nvSpPr>
          <p:cNvPr id="83" name="直接连接符 9"/>
          <p:cNvSpPr/>
          <p:nvPr/>
        </p:nvSpPr>
        <p:spPr>
          <a:xfrm>
            <a:off x="0" y="1023840"/>
            <a:ext cx="12241080" cy="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612360" y="6506640"/>
            <a:ext cx="28558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4183200" y="6506640"/>
            <a:ext cx="38750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8772120" y="6506640"/>
            <a:ext cx="28558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09A6-042F-4381-974A-54A62CA239B5}" type="slidenum">
              <a:rPr b="0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612000" y="280080"/>
            <a:ext cx="1101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612000" y="1642680"/>
            <a:ext cx="1101564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C:\Users\Administrator\AppData\Roaming\Tencent\Users\64561958\QQ\WinTemp\RichOle\U[DY%FFOIREARK2S786WRYL.png"/>
          <p:cNvPicPr/>
          <p:nvPr/>
        </p:nvPicPr>
        <p:blipFill>
          <a:blip r:embed="rId2"/>
          <a:stretch/>
        </p:blipFill>
        <p:spPr>
          <a:xfrm>
            <a:off x="7937640" y="6435720"/>
            <a:ext cx="4016160" cy="538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" descr=""/>
          <p:cNvPicPr/>
          <p:nvPr/>
        </p:nvPicPr>
        <p:blipFill>
          <a:blip r:embed="rId3"/>
          <a:stretch/>
        </p:blipFill>
        <p:spPr>
          <a:xfrm>
            <a:off x="382680" y="135000"/>
            <a:ext cx="1052280" cy="866880"/>
          </a:xfrm>
          <a:prstGeom prst="rect">
            <a:avLst/>
          </a:prstGeom>
          <a:ln w="0">
            <a:noFill/>
          </a:ln>
        </p:spPr>
      </p:pic>
      <p:sp>
        <p:nvSpPr>
          <p:cNvPr id="127" name="直接连接符 9"/>
          <p:cNvSpPr/>
          <p:nvPr/>
        </p:nvSpPr>
        <p:spPr>
          <a:xfrm>
            <a:off x="0" y="1023840"/>
            <a:ext cx="12241080" cy="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612360" y="6506640"/>
            <a:ext cx="28558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4183200" y="6506640"/>
            <a:ext cx="38750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8772120" y="6506640"/>
            <a:ext cx="28558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3250-11EF-4B08-9E0E-AD8D33550249}" type="slidenum">
              <a:rPr b="0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C:\Users\Administrator\AppData\Roaming\Tencent\Users\64561958\QQ\WinTemp\RichOle\U[DY%FFOIREARK2S786WRYL.png"/>
          <p:cNvPicPr/>
          <p:nvPr/>
        </p:nvPicPr>
        <p:blipFill>
          <a:blip r:embed="rId2"/>
          <a:stretch/>
        </p:blipFill>
        <p:spPr>
          <a:xfrm>
            <a:off x="7937640" y="6435720"/>
            <a:ext cx="4016160" cy="538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" descr=""/>
          <p:cNvPicPr/>
          <p:nvPr/>
        </p:nvPicPr>
        <p:blipFill>
          <a:blip r:embed="rId3"/>
          <a:stretch/>
        </p:blipFill>
        <p:spPr>
          <a:xfrm>
            <a:off x="382680" y="135000"/>
            <a:ext cx="1052280" cy="86688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9"/>
          <p:cNvSpPr/>
          <p:nvPr/>
        </p:nvSpPr>
        <p:spPr>
          <a:xfrm>
            <a:off x="0" y="1023840"/>
            <a:ext cx="12241080" cy="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612360" y="6506640"/>
            <a:ext cx="28558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4183200" y="6506640"/>
            <a:ext cx="38750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8772120" y="6506640"/>
            <a:ext cx="28558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F62A-66A1-4759-A89B-3A7D8A352977}" type="slidenum">
              <a:rPr b="0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C:\Users\Administrator\AppData\Roaming\Tencent\Users\64561958\QQ\WinTemp\RichOle\U[DY%FFOIREARK2S786WRYL.png"/>
          <p:cNvPicPr/>
          <p:nvPr/>
        </p:nvPicPr>
        <p:blipFill>
          <a:blip r:embed="rId2"/>
          <a:stretch/>
        </p:blipFill>
        <p:spPr>
          <a:xfrm>
            <a:off x="7937640" y="6435720"/>
            <a:ext cx="4016160" cy="538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" descr=""/>
          <p:cNvPicPr/>
          <p:nvPr/>
        </p:nvPicPr>
        <p:blipFill>
          <a:blip r:embed="rId3"/>
          <a:stretch/>
        </p:blipFill>
        <p:spPr>
          <a:xfrm>
            <a:off x="382680" y="135000"/>
            <a:ext cx="1052280" cy="866880"/>
          </a:xfrm>
          <a:prstGeom prst="rect">
            <a:avLst/>
          </a:prstGeom>
          <a:ln w="0">
            <a:noFill/>
          </a:ln>
        </p:spPr>
      </p:pic>
      <p:sp>
        <p:nvSpPr>
          <p:cNvPr id="211" name="直接连接符 9"/>
          <p:cNvSpPr/>
          <p:nvPr/>
        </p:nvSpPr>
        <p:spPr>
          <a:xfrm>
            <a:off x="0" y="1023840"/>
            <a:ext cx="12241080" cy="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612360" y="6506640"/>
            <a:ext cx="28558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4183200" y="6506640"/>
            <a:ext cx="38750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8772120" y="6506640"/>
            <a:ext cx="28558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8B47-9C66-42A2-9E10-41A353F23F40}" type="slidenum">
              <a:rPr b="0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" descr="C:\Users\Administrator\AppData\Roaming\Tencent\Users\64561958\QQ\WinTemp\RichOle\U[DY%FFOIREARK2S786WRYL.png"/>
          <p:cNvPicPr/>
          <p:nvPr/>
        </p:nvPicPr>
        <p:blipFill>
          <a:blip r:embed="rId2"/>
          <a:stretch/>
        </p:blipFill>
        <p:spPr>
          <a:xfrm>
            <a:off x="7937640" y="6435720"/>
            <a:ext cx="4016160" cy="5382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" descr=""/>
          <p:cNvPicPr/>
          <p:nvPr/>
        </p:nvPicPr>
        <p:blipFill>
          <a:blip r:embed="rId3"/>
          <a:stretch/>
        </p:blipFill>
        <p:spPr>
          <a:xfrm>
            <a:off x="382680" y="135000"/>
            <a:ext cx="1052280" cy="866880"/>
          </a:xfrm>
          <a:prstGeom prst="rect">
            <a:avLst/>
          </a:prstGeom>
          <a:ln w="0">
            <a:noFill/>
          </a:ln>
        </p:spPr>
      </p:pic>
      <p:sp>
        <p:nvSpPr>
          <p:cNvPr id="253" name="直接连接符 9"/>
          <p:cNvSpPr/>
          <p:nvPr/>
        </p:nvSpPr>
        <p:spPr>
          <a:xfrm>
            <a:off x="0" y="1023840"/>
            <a:ext cx="12241080" cy="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612360" y="6506640"/>
            <a:ext cx="28558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4183200" y="6506640"/>
            <a:ext cx="38750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8772120" y="6506640"/>
            <a:ext cx="28558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DC3F-D275-4D33-8A47-0F1F9F756CE8}" type="slidenum">
              <a:rPr b="0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" descr="C:\Users\Administrator\AppData\Roaming\Tencent\Users\64561958\QQ\WinTemp\RichOle\U[DY%FFOIREARK2S786WRYL.png"/>
          <p:cNvPicPr/>
          <p:nvPr/>
        </p:nvPicPr>
        <p:blipFill>
          <a:blip r:embed="rId2"/>
          <a:stretch/>
        </p:blipFill>
        <p:spPr>
          <a:xfrm>
            <a:off x="7937640" y="6435720"/>
            <a:ext cx="4016160" cy="5382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" descr=""/>
          <p:cNvPicPr/>
          <p:nvPr/>
        </p:nvPicPr>
        <p:blipFill>
          <a:blip r:embed="rId3"/>
          <a:stretch/>
        </p:blipFill>
        <p:spPr>
          <a:xfrm>
            <a:off x="382680" y="135000"/>
            <a:ext cx="1052280" cy="866880"/>
          </a:xfrm>
          <a:prstGeom prst="rect">
            <a:avLst/>
          </a:prstGeom>
          <a:ln w="0">
            <a:noFill/>
          </a:ln>
        </p:spPr>
      </p:pic>
      <p:sp>
        <p:nvSpPr>
          <p:cNvPr id="295" name="直接连接符 9"/>
          <p:cNvSpPr/>
          <p:nvPr/>
        </p:nvSpPr>
        <p:spPr>
          <a:xfrm>
            <a:off x="0" y="1023840"/>
            <a:ext cx="12241080" cy="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612360" y="6506640"/>
            <a:ext cx="28558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4183200" y="6506640"/>
            <a:ext cx="38750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8772120" y="6506640"/>
            <a:ext cx="28558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2AD2-9987-4D64-9675-58E03B5033C8}" type="slidenum">
              <a:rPr b="0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" descr="C:\Users\Administrator\AppData\Roaming\Tencent\Users\64561958\QQ\WinTemp\RichOle\U[DY%FFOIREARK2S786WRYL.png"/>
          <p:cNvPicPr/>
          <p:nvPr/>
        </p:nvPicPr>
        <p:blipFill>
          <a:blip r:embed="rId2"/>
          <a:stretch/>
        </p:blipFill>
        <p:spPr>
          <a:xfrm>
            <a:off x="7937640" y="6435720"/>
            <a:ext cx="4016160" cy="5382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" descr=""/>
          <p:cNvPicPr/>
          <p:nvPr/>
        </p:nvPicPr>
        <p:blipFill>
          <a:blip r:embed="rId3"/>
          <a:stretch/>
        </p:blipFill>
        <p:spPr>
          <a:xfrm>
            <a:off x="382680" y="135000"/>
            <a:ext cx="1052280" cy="866880"/>
          </a:xfrm>
          <a:prstGeom prst="rect">
            <a:avLst/>
          </a:prstGeom>
          <a:ln w="0">
            <a:noFill/>
          </a:ln>
        </p:spPr>
      </p:pic>
      <p:sp>
        <p:nvSpPr>
          <p:cNvPr id="337" name="直接连接符 9"/>
          <p:cNvSpPr/>
          <p:nvPr/>
        </p:nvSpPr>
        <p:spPr>
          <a:xfrm>
            <a:off x="0" y="1023840"/>
            <a:ext cx="12241080" cy="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612360" y="6506640"/>
            <a:ext cx="28558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4183200" y="6506640"/>
            <a:ext cx="387504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8772120" y="6506640"/>
            <a:ext cx="28558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5ED3-1F3A-46EB-9D41-89E9BD4E7C14}" type="slidenum">
              <a:rPr b="0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60000" y="414000"/>
            <a:ext cx="11396520" cy="1268280"/>
          </a:xfrm>
          <a:prstGeom prst="rect">
            <a:avLst/>
          </a:prstGeom>
          <a:noFill/>
          <a:ln w="0">
            <a:noFill/>
          </a:ln>
        </p:spPr>
        <p:txBody>
          <a:bodyPr lIns="110160" rIns="110160" tIns="55080" bIns="55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000000"/>
                </a:solidFill>
                <a:latin typeface="Calibri"/>
              </a:rPr>
              <a:t>HENGYI (BRUNEI) PMB PROJECT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矩形 1"/>
          <p:cNvSpPr/>
          <p:nvPr/>
        </p:nvSpPr>
        <p:spPr>
          <a:xfrm>
            <a:off x="1368360" y="1854360"/>
            <a:ext cx="90727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幼圆"/>
                <a:ea typeface="幼圆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月份部门月度例会报告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zh-CN" sz="4800" spc="-1" strike="noStrike">
                <a:solidFill>
                  <a:srgbClr val="ff0000"/>
                </a:solidFill>
                <a:latin typeface="幼圆"/>
                <a:ea typeface="幼圆"/>
              </a:rPr>
              <a:t>设备专业</a:t>
            </a: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）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文本框 2"/>
          <p:cNvSpPr/>
          <p:nvPr/>
        </p:nvSpPr>
        <p:spPr>
          <a:xfrm>
            <a:off x="5148360" y="504504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20.4.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矩形 1"/>
          <p:cNvSpPr/>
          <p:nvPr/>
        </p:nvSpPr>
        <p:spPr>
          <a:xfrm>
            <a:off x="5498640" y="34452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重要的设备故障处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47640" y="1289520"/>
            <a:ext cx="1123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日，机动部牵头组织运行部、电气部讨论后，确定风机角度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调整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运行部考虑白天作业检修质量较高，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日开始，剩余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台风机均安排在白天调整风叶角度，各风机叶片调整后启运正常，调整前后各参数见下表：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5995080" y="19386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2160720" y="2790720"/>
          <a:ext cx="7632720" cy="3797280"/>
        </p:xfrm>
        <a:graphic>
          <a:graphicData uri="http://schemas.openxmlformats.org/drawingml/2006/table">
            <a:tbl>
              <a:tblPr/>
              <a:tblGrid>
                <a:gridCol w="936360"/>
                <a:gridCol w="811440"/>
                <a:gridCol w="807840"/>
                <a:gridCol w="808200"/>
                <a:gridCol w="923760"/>
                <a:gridCol w="924120"/>
                <a:gridCol w="923760"/>
                <a:gridCol w="1497240"/>
              </a:tblGrid>
              <a:tr h="649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日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位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调整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角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启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电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堵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时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前运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电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后运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电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备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9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月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N-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0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～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叶片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°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无法启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月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N-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～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2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月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N-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2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变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月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N-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～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月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N-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8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0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～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月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N-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8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4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～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月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r>
                        <a:rPr b="1" lang="zh-C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N-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2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～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8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矩形 1"/>
          <p:cNvSpPr/>
          <p:nvPr/>
        </p:nvSpPr>
        <p:spPr>
          <a:xfrm>
            <a:off x="5498640" y="34452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重要的设备故障处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503280" y="2476440"/>
            <a:ext cx="1123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日，重新对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FAN-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风机叶片角度进行调整，角度调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5.2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，启动电流最高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300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，堵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秒后风机运行正常；运行电流从调整前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58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（叶片角度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4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）上升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96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本次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台风机叶片角度调整后，循环水供水温度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3℃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左右降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2℃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以下，效果明显。目前水温下降后停运一台循环水泵，目前一大一小两台循环水泵备用；但风机停运一台后水温超指标，目前无备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5995080" y="19386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5960160" y="2005200"/>
            <a:ext cx="320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576000" y="1061640"/>
            <a:ext cx="11017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目前一循冷却塔遗留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江苏海鸥意见——风机运行最佳工况为运行电流在额定电流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90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区间，故按现场电机额定电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85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计算，风机叶片可继续调至运行电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30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左右，而实际叶片角度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时，风机负荷过大堵转时间超过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秒，无法启动。参照兄弟单位同负荷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4500t/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）的循环水冷却塔风机配套电机，均不小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85k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（高压电机），而本项目一循冷却塔风机配套电机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60kW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（低压电机），电机偏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我部已整理好本次风机叶片调整情况，发函给江苏海鸥，要求厂家解决风量不达标问题，并到场重新进行标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矩形 1"/>
          <p:cNvSpPr/>
          <p:nvPr/>
        </p:nvSpPr>
        <p:spPr>
          <a:xfrm>
            <a:off x="5498640" y="34452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重要的设备故障处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752400" y="1570320"/>
            <a:ext cx="1123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.2  20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日，巡检发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P2012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轴承箱机封侧漏润滑油，联系维修部拆检发现机封磨损，油封磨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原因分析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*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油封质量差。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*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机封自冲洗水中颗粒杂质造成机封磨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处理措施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更换油封，机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5995080" y="19386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图片 9" descr="图片包含 人员, 室内&#10;&#10;描述已自动生成"/>
          <p:cNvPicPr/>
          <p:nvPr/>
        </p:nvPicPr>
        <p:blipFill>
          <a:blip r:embed="rId1"/>
          <a:stretch/>
        </p:blipFill>
        <p:spPr>
          <a:xfrm>
            <a:off x="7790040" y="1932120"/>
            <a:ext cx="3877920" cy="406404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8"/>
          <p:cNvSpPr/>
          <p:nvPr/>
        </p:nvSpPr>
        <p:spPr>
          <a:xfrm>
            <a:off x="0" y="2124000"/>
            <a:ext cx="1224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矩形 1"/>
          <p:cNvSpPr/>
          <p:nvPr/>
        </p:nvSpPr>
        <p:spPr>
          <a:xfrm>
            <a:off x="5498640" y="34452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重要的设备故障处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2"/>
          <p:cNvSpPr/>
          <p:nvPr/>
        </p:nvSpPr>
        <p:spPr>
          <a:xfrm>
            <a:off x="636480" y="1579320"/>
            <a:ext cx="110887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.3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: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循环水风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111-FAN-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跳停。联系仪表检查，发现探头有松动现象，紧固探头，复查叶片角度正常和叶片固定螺栓无松动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7:4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再次启动风机，温度、振动、电流等参数运行正常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7:5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再次跳停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C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无任何报警，联系电气、仪表、维修对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风机进行全面检查，仪表在后台检查发现跳停原因是振动高联锁，更换风机振动探头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:3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再次启动风机后运行正常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0" y="2381400"/>
            <a:ext cx="1224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图片 7" descr="C:\Users\hhjt11\AppData\Local\Temp\WeChat Files\44d46415dabca8a01bd508e7fdc8c47.jpg"/>
          <p:cNvPicPr/>
          <p:nvPr/>
        </p:nvPicPr>
        <p:blipFill>
          <a:blip r:embed="rId1"/>
          <a:srcRect l="0" t="0" r="0" b="13859"/>
          <a:stretch/>
        </p:blipFill>
        <p:spPr>
          <a:xfrm>
            <a:off x="792000" y="4014720"/>
            <a:ext cx="2935440" cy="226080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8" descr="C:\Users\hhjt11\AppData\Local\Temp\WeChat Files\ae1189e135fb007f0c680df057fc4ea.jpg"/>
          <p:cNvPicPr/>
          <p:nvPr/>
        </p:nvPicPr>
        <p:blipFill>
          <a:blip r:embed="rId2"/>
          <a:srcRect l="3187" t="38719" r="9635" b="24833"/>
          <a:stretch/>
        </p:blipFill>
        <p:spPr>
          <a:xfrm>
            <a:off x="3963960" y="3992400"/>
            <a:ext cx="3678120" cy="226080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10" descr="C:\Users\hhjt11\AppData\Local\Temp\WeChat Files\3a5b9ba21e7e8d5b28daa68e20f30ba.jpg"/>
          <p:cNvPicPr/>
          <p:nvPr/>
        </p:nvPicPr>
        <p:blipFill>
          <a:blip r:embed="rId3"/>
          <a:srcRect l="8289" t="13001" r="22705" b="13813"/>
          <a:stretch/>
        </p:blipFill>
        <p:spPr>
          <a:xfrm>
            <a:off x="7790040" y="3992400"/>
            <a:ext cx="374940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矩形 1"/>
          <p:cNvSpPr/>
          <p:nvPr/>
        </p:nvSpPr>
        <p:spPr>
          <a:xfrm>
            <a:off x="5498640" y="34452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重要的设备故障处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矩形 1"/>
          <p:cNvSpPr/>
          <p:nvPr/>
        </p:nvSpPr>
        <p:spPr>
          <a:xfrm>
            <a:off x="936720" y="1278000"/>
            <a:ext cx="1036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4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0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日，联系设备检修拆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P06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泵，发现泵腔隔板局部腐蚀穿孔，二级叶轮、诱导轮腐蚀严重，暂时未回装，已联系物装部与厂家，要求尽快加工泵壳和叶轮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图片 4" descr="图片包含 金属器皿&#10;&#10;描述已自动生成"/>
          <p:cNvPicPr/>
          <p:nvPr/>
        </p:nvPicPr>
        <p:blipFill>
          <a:blip r:embed="rId1"/>
          <a:stretch/>
        </p:blipFill>
        <p:spPr>
          <a:xfrm>
            <a:off x="1316160" y="3078000"/>
            <a:ext cx="2624040" cy="309744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5" descr="图片包含 旧, 室内&#10;&#10;描述已自动生成"/>
          <p:cNvPicPr/>
          <p:nvPr/>
        </p:nvPicPr>
        <p:blipFill>
          <a:blip r:embed="rId2"/>
          <a:stretch/>
        </p:blipFill>
        <p:spPr>
          <a:xfrm>
            <a:off x="4968720" y="3063960"/>
            <a:ext cx="2568600" cy="309564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6" descr="图片包含 蛋糕, 餐桌, 地面, 就坐&#10;&#10;描述已自动生成"/>
          <p:cNvPicPr/>
          <p:nvPr/>
        </p:nvPicPr>
        <p:blipFill>
          <a:blip r:embed="rId3"/>
          <a:stretch/>
        </p:blipFill>
        <p:spPr>
          <a:xfrm>
            <a:off x="8429760" y="3063960"/>
            <a:ext cx="246384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矩形 1"/>
          <p:cNvSpPr/>
          <p:nvPr/>
        </p:nvSpPr>
        <p:spPr>
          <a:xfrm>
            <a:off x="5498640" y="34452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重要的设备故障处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矩形 1"/>
          <p:cNvSpPr/>
          <p:nvPr/>
        </p:nvSpPr>
        <p:spPr>
          <a:xfrm>
            <a:off x="720720" y="1062000"/>
            <a:ext cx="1130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5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0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日，巡检发现稀释碱渣提升泵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154-P1004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机封漏，拆检后发现机封损坏，更换机封，运行正常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原因分析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拆检发现机封动、静环密封圈均有磨损；弹簧有腐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理措施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更换机封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碱渣腐蚀、渗透性强，机封自冲洗改生产水冲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图片 4" descr=""/>
          <p:cNvPicPr/>
          <p:nvPr/>
        </p:nvPicPr>
        <p:blipFill>
          <a:blip r:embed="rId1"/>
          <a:stretch/>
        </p:blipFill>
        <p:spPr>
          <a:xfrm>
            <a:off x="8064360" y="3438360"/>
            <a:ext cx="3672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矩形 1"/>
          <p:cNvSpPr/>
          <p:nvPr/>
        </p:nvSpPr>
        <p:spPr>
          <a:xfrm>
            <a:off x="5498640" y="34452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重要的设备故障处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矩形 1"/>
          <p:cNvSpPr/>
          <p:nvPr/>
        </p:nvSpPr>
        <p:spPr>
          <a:xfrm>
            <a:off x="757080" y="1063800"/>
            <a:ext cx="11195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6   20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日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152-P1004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不上量，拆检发现工作叶轮有腐蚀。更换叶轮，运行正常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原因分析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污水硫化物导致叶轮腐蚀严重；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污水池低液位时，泵半抽空，叶轮表面汽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理措施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更换叶轮，后续叶轮材质须升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艺控制污水池液位不得低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图片 5" descr=""/>
          <p:cNvPicPr/>
          <p:nvPr/>
        </p:nvPicPr>
        <p:blipFill>
          <a:blip r:embed="rId1"/>
          <a:stretch/>
        </p:blipFill>
        <p:spPr>
          <a:xfrm>
            <a:off x="6161040" y="3870360"/>
            <a:ext cx="2641680" cy="2565360"/>
          </a:xfrm>
          <a:prstGeom prst="rect">
            <a:avLst/>
          </a:prstGeom>
          <a:ln w="0">
            <a:noFill/>
          </a:ln>
        </p:spPr>
      </p:pic>
      <p:pic>
        <p:nvPicPr>
          <p:cNvPr id="554" name="图片 6" descr="图片包含 室内&#10;&#10;描述已自动生成"/>
          <p:cNvPicPr/>
          <p:nvPr/>
        </p:nvPicPr>
        <p:blipFill>
          <a:blip r:embed="rId2"/>
          <a:stretch/>
        </p:blipFill>
        <p:spPr>
          <a:xfrm>
            <a:off x="9053640" y="1728720"/>
            <a:ext cx="268416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矩形 1"/>
          <p:cNvSpPr/>
          <p:nvPr/>
        </p:nvSpPr>
        <p:spPr>
          <a:xfrm>
            <a:off x="5498640" y="34452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重要的设备故障处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矩形 1"/>
          <p:cNvSpPr/>
          <p:nvPr/>
        </p:nvSpPr>
        <p:spPr>
          <a:xfrm>
            <a:off x="757080" y="1293840"/>
            <a:ext cx="1062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7  20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日，巡检发现碱渣均质泵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154-P100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机封漏，拆检后发现机封损坏，更换机封，运行正常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图片 5" descr=""/>
          <p:cNvPicPr/>
          <p:nvPr/>
        </p:nvPicPr>
        <p:blipFill>
          <a:blip r:embed="rId1"/>
          <a:stretch/>
        </p:blipFill>
        <p:spPr>
          <a:xfrm>
            <a:off x="3500280" y="2502000"/>
            <a:ext cx="46054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矩形 1"/>
          <p:cNvSpPr/>
          <p:nvPr/>
        </p:nvSpPr>
        <p:spPr>
          <a:xfrm>
            <a:off x="5498640" y="34452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重要的设备故障处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矩形 1"/>
          <p:cNvSpPr/>
          <p:nvPr/>
        </p:nvSpPr>
        <p:spPr>
          <a:xfrm>
            <a:off x="863640" y="1062000"/>
            <a:ext cx="1101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8  20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日，碱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154-P1004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泵壳泄漏，拆检发现泵壳腐蚀严重无法修复；叶轮腐蚀严重。但两年备件中叶轮尚未到货，已联系物装紧急采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原因分析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碱渣油水分离器加酸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计反应滞后，硫酸加注量过多造成叶轮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泵壳腐蚀严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理措施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暂停加酸，工艺进行调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艺操作再摸索，硫酸加注改手动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图片 4" descr=""/>
          <p:cNvPicPr/>
          <p:nvPr/>
        </p:nvPicPr>
        <p:blipFill>
          <a:blip r:embed="rId1"/>
          <a:stretch/>
        </p:blipFill>
        <p:spPr>
          <a:xfrm>
            <a:off x="6399360" y="3443400"/>
            <a:ext cx="2498400" cy="247788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5" descr=""/>
          <p:cNvPicPr/>
          <p:nvPr/>
        </p:nvPicPr>
        <p:blipFill>
          <a:blip r:embed="rId2"/>
          <a:stretch/>
        </p:blipFill>
        <p:spPr>
          <a:xfrm>
            <a:off x="9013680" y="3443400"/>
            <a:ext cx="257976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36360" y="1206360"/>
            <a:ext cx="10405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目录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标题 1"/>
          <p:cNvSpPr/>
          <p:nvPr/>
        </p:nvSpPr>
        <p:spPr>
          <a:xfrm>
            <a:off x="1655640" y="1998720"/>
            <a:ext cx="81392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252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、机组与关键设备运行情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、重要的设备故障处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、机泵运行情况与检修率统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、下月主要工作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、设备专业考核通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、需要协调和处理的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6360" y="225360"/>
            <a:ext cx="1139652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Calibri"/>
              </a:rPr>
              <a:t>HENGYI (BRUNEI) PMB PROJEC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矩形 1"/>
          <p:cNvSpPr/>
          <p:nvPr/>
        </p:nvSpPr>
        <p:spPr>
          <a:xfrm>
            <a:off x="5498640" y="34452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重要的设备故障处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矩形 1"/>
          <p:cNvSpPr/>
          <p:nvPr/>
        </p:nvSpPr>
        <p:spPr>
          <a:xfrm>
            <a:off x="1079640" y="1135080"/>
            <a:ext cx="105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9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2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日，巡检发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152-P2002B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机封漏水，拆检后发现机封损坏，叶轮，轴承损坏，更换机封，叶轮，轴承，运行正常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图片 4" descr="图片包含 人, 杯子, 盘子, 食物&#10;&#10;描述已自动生成"/>
          <p:cNvPicPr/>
          <p:nvPr/>
        </p:nvPicPr>
        <p:blipFill>
          <a:blip r:embed="rId1"/>
          <a:stretch/>
        </p:blipFill>
        <p:spPr>
          <a:xfrm>
            <a:off x="1944720" y="2646360"/>
            <a:ext cx="2519280" cy="321300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5" descr="图片包含 金属, 黑色, 白色, 男人&#10;&#10;描述已自动生成"/>
          <p:cNvPicPr/>
          <p:nvPr/>
        </p:nvPicPr>
        <p:blipFill>
          <a:blip r:embed="rId2"/>
          <a:stretch/>
        </p:blipFill>
        <p:spPr>
          <a:xfrm>
            <a:off x="5288040" y="2646360"/>
            <a:ext cx="2427120" cy="32130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6" descr="银色的杯子&#10;&#10;描述已自动生成"/>
          <p:cNvPicPr/>
          <p:nvPr/>
        </p:nvPicPr>
        <p:blipFill>
          <a:blip r:embed="rId3"/>
          <a:stretch/>
        </p:blipFill>
        <p:spPr>
          <a:xfrm>
            <a:off x="8496360" y="2681280"/>
            <a:ext cx="2232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矩形 1"/>
          <p:cNvSpPr/>
          <p:nvPr/>
        </p:nvSpPr>
        <p:spPr>
          <a:xfrm>
            <a:off x="5498640" y="34452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重要的设备故障处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矩形 1"/>
          <p:cNvSpPr/>
          <p:nvPr/>
        </p:nvSpPr>
        <p:spPr>
          <a:xfrm>
            <a:off x="757080" y="1278000"/>
            <a:ext cx="1069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10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0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日，巡检发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701-K001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运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小时，润滑油维护报警提醒（工厂设置），机组润滑油月度分析合格，不作更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矩形 1"/>
          <p:cNvSpPr/>
          <p:nvPr/>
        </p:nvSpPr>
        <p:spPr>
          <a:xfrm>
            <a:off x="5498640" y="34452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重要的设备故障处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矩形 1"/>
          <p:cNvSpPr/>
          <p:nvPr/>
        </p:nvSpPr>
        <p:spPr>
          <a:xfrm>
            <a:off x="1079640" y="1135080"/>
            <a:ext cx="105138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11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2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日，分子筛电加热器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H001A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投运前检查绝缘，发现绝缘不合格，电气检查接线，发现有一根线烧断、一根线绝缘损伤、接片烧坏一处、接线柱烧坏一处。电气更换备件，运行正常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原因分析：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电缆质量差，或出厂前接线有损伤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采取措施：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后续定期检查绝缘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图片 4" descr=""/>
          <p:cNvPicPr/>
          <p:nvPr/>
        </p:nvPicPr>
        <p:blipFill>
          <a:blip r:embed="rId1"/>
          <a:stretch/>
        </p:blipFill>
        <p:spPr>
          <a:xfrm>
            <a:off x="6040440" y="3510000"/>
            <a:ext cx="3043080" cy="2736720"/>
          </a:xfrm>
          <a:prstGeom prst="rect">
            <a:avLst/>
          </a:prstGeom>
          <a:ln w="0">
            <a:noFill/>
          </a:ln>
        </p:spPr>
      </p:pic>
      <p:pic>
        <p:nvPicPr>
          <p:cNvPr id="572" name="图片 5" descr="C:\Users\hhjt11\AppData\Local\Temp\WeChat Files\24cdf62da14d99dce91ac823f9d7f9e.jpg"/>
          <p:cNvPicPr/>
          <p:nvPr/>
        </p:nvPicPr>
        <p:blipFill>
          <a:blip r:embed="rId2"/>
          <a:stretch/>
        </p:blipFill>
        <p:spPr>
          <a:xfrm>
            <a:off x="9226440" y="2502000"/>
            <a:ext cx="26542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标题 1"/>
          <p:cNvSpPr/>
          <p:nvPr/>
        </p:nvSpPr>
        <p:spPr>
          <a:xfrm>
            <a:off x="1512720" y="2209680"/>
            <a:ext cx="69836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、机泵运行情况与检修率统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576360" y="343080"/>
            <a:ext cx="113965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Calibri"/>
              </a:rPr>
              <a:t>HENGYI (BRUNEI) PMB PROJECT</a:t>
            </a:r>
            <a:br>
              <a:rPr sz="2800"/>
            </a:br>
            <a:br>
              <a:rPr sz="1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矩形 1"/>
          <p:cNvSpPr/>
          <p:nvPr/>
        </p:nvSpPr>
        <p:spPr>
          <a:xfrm>
            <a:off x="4445640" y="343080"/>
            <a:ext cx="31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机泵运行情况与检修率统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矩形 1"/>
          <p:cNvSpPr/>
          <p:nvPr/>
        </p:nvSpPr>
        <p:spPr>
          <a:xfrm>
            <a:off x="1971720" y="1135080"/>
            <a:ext cx="425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本月检修机泵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台次，检修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4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表格 3" descr=""/>
          <p:cNvPicPr/>
          <p:nvPr/>
        </p:nvPicPr>
        <p:blipFill>
          <a:blip r:embed="rId1"/>
          <a:stretch/>
        </p:blipFill>
        <p:spPr>
          <a:xfrm>
            <a:off x="1316160" y="1852560"/>
            <a:ext cx="869292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矩形 1"/>
          <p:cNvSpPr/>
          <p:nvPr/>
        </p:nvSpPr>
        <p:spPr>
          <a:xfrm>
            <a:off x="4445640" y="343080"/>
            <a:ext cx="31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机泵运行情况与检修率统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矩形 1"/>
          <p:cNvSpPr/>
          <p:nvPr/>
        </p:nvSpPr>
        <p:spPr>
          <a:xfrm>
            <a:off x="1971720" y="1135080"/>
            <a:ext cx="425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本月检修机泵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台次，检修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4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矩形 2"/>
          <p:cNvSpPr/>
          <p:nvPr/>
        </p:nvSpPr>
        <p:spPr>
          <a:xfrm>
            <a:off x="776160" y="1927080"/>
            <a:ext cx="104396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●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月发生检修机泵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台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台全部更换轴承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台机泵运行在半年以上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台是江苏长凯机泵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 ●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月发生检修机泵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台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台机封泄漏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台污水处理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台碱渣处理）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台机泵腐蚀严重（雨水监控池、污水处理、碱渣处理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台，与介质有关）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台循环水风机跳机（探头故障）。更换轴承机泵是污水处理长凯污水泵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下个月开始做个柱状图：机封、轴承每月消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标题 1"/>
          <p:cNvSpPr/>
          <p:nvPr/>
        </p:nvSpPr>
        <p:spPr>
          <a:xfrm>
            <a:off x="1728720" y="2143080"/>
            <a:ext cx="74804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、下月主要工作计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576360" y="225360"/>
            <a:ext cx="1139652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Calibri"/>
              </a:rPr>
              <a:t>HENGYI (BRUNEI) PMB PROJECT</a:t>
            </a:r>
            <a:br>
              <a:rPr sz="28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矩形 1"/>
          <p:cNvSpPr/>
          <p:nvPr/>
        </p:nvSpPr>
        <p:spPr>
          <a:xfrm>
            <a:off x="5389560" y="34308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下月主要工作计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矩形 1"/>
          <p:cNvSpPr/>
          <p:nvPr/>
        </p:nvSpPr>
        <p:spPr>
          <a:xfrm>
            <a:off x="1152360" y="1638360"/>
            <a:ext cx="10080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跟踪落实月度计划材料到货情况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2 ERP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O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数据完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3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跟踪未到备件到货情况与备件到货验收（液氮泵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热水泵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碱渣泵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P06A/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编制公用工程部储备定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编制月度检修计划及实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零星技改施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标题 1"/>
          <p:cNvSpPr/>
          <p:nvPr/>
        </p:nvSpPr>
        <p:spPr>
          <a:xfrm>
            <a:off x="1800360" y="2143080"/>
            <a:ext cx="51847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、设备专业考核通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576360" y="225360"/>
            <a:ext cx="1139652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</a:rPr>
              <a:t>HENGYI (BRUNEI) PMB PROJECT</a:t>
            </a:r>
            <a:br>
              <a:rPr sz="2400"/>
            </a:b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矩形 1"/>
          <p:cNvSpPr/>
          <p:nvPr/>
        </p:nvSpPr>
        <p:spPr>
          <a:xfrm>
            <a:off x="5389560" y="34308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设备专业考核通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文本框 1"/>
          <p:cNvSpPr/>
          <p:nvPr/>
        </p:nvSpPr>
        <p:spPr>
          <a:xfrm>
            <a:off x="863640" y="1566720"/>
            <a:ext cx="1101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.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规格化排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.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设备单项考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考核已经公示，如有疑问，直接联系设备专业复查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标题 1"/>
          <p:cNvSpPr/>
          <p:nvPr/>
        </p:nvSpPr>
        <p:spPr>
          <a:xfrm>
            <a:off x="2808360" y="2719440"/>
            <a:ext cx="74800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、机组与关键设备运行情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6360" y="343080"/>
            <a:ext cx="113965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alibri"/>
              </a:rPr>
              <a:t>HENGYI (BRUNEI) PMB PROJECT</a:t>
            </a: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矩形 1"/>
          <p:cNvSpPr/>
          <p:nvPr/>
        </p:nvSpPr>
        <p:spPr>
          <a:xfrm>
            <a:off x="1512720" y="2286000"/>
            <a:ext cx="921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需要协调和处理的问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Box 3"/>
          <p:cNvSpPr/>
          <p:nvPr/>
        </p:nvSpPr>
        <p:spPr>
          <a:xfrm>
            <a:off x="3529080" y="286236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矩形 1"/>
          <p:cNvSpPr/>
          <p:nvPr/>
        </p:nvSpPr>
        <p:spPr>
          <a:xfrm>
            <a:off x="4659480" y="343080"/>
            <a:ext cx="288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机组与关键设备运行情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1512720" y="2889360"/>
          <a:ext cx="8928360" cy="3576600"/>
        </p:xfrm>
        <a:graphic>
          <a:graphicData uri="http://schemas.openxmlformats.org/drawingml/2006/table">
            <a:tbl>
              <a:tblPr/>
              <a:tblGrid>
                <a:gridCol w="1884600"/>
                <a:gridCol w="2097000"/>
                <a:gridCol w="2119320"/>
                <a:gridCol w="2827440"/>
              </a:tblGrid>
              <a:tr h="728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位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流量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m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/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振值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μ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运行时间累计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4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001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32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9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83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001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17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82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001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备用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83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001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27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6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68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4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001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32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9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76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4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001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1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59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13" name="Rectangle 62"/>
          <p:cNvSpPr/>
          <p:nvPr/>
        </p:nvSpPr>
        <p:spPr>
          <a:xfrm>
            <a:off x="360360" y="1066320"/>
            <a:ext cx="11736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.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空压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空压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K-001ABDEF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运行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机组备用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日，空压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切换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运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矩形 1"/>
          <p:cNvSpPr/>
          <p:nvPr/>
        </p:nvSpPr>
        <p:spPr>
          <a:xfrm>
            <a:off x="4876560" y="343080"/>
            <a:ext cx="366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机组与关键设备运行情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62"/>
          <p:cNvSpPr/>
          <p:nvPr/>
        </p:nvSpPr>
        <p:spPr>
          <a:xfrm>
            <a:off x="792000" y="1505880"/>
            <a:ext cx="1065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膨胀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膨胀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ET001-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运行正常：轴瓦温度最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3.8℃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振值最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.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转速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2919rp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膨胀机进口温度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-143.8℃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出口温度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-181.8℃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ET-001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备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日，膨胀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切换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运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溴化锂机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厂前区制冷站：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602-WCH-001A/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运行正常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602-WCH-001B/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备用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装置区制冷站：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603-WCH-001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运行正常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603-WCH-001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备用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603-WCH-002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运行正常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603-WCH-002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备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矩形 1"/>
          <p:cNvSpPr/>
          <p:nvPr/>
        </p:nvSpPr>
        <p:spPr>
          <a:xfrm>
            <a:off x="4876560" y="343080"/>
            <a:ext cx="366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机组与关键设备运行情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62"/>
          <p:cNvSpPr/>
          <p:nvPr/>
        </p:nvSpPr>
        <p:spPr>
          <a:xfrm>
            <a:off x="720720" y="2376720"/>
            <a:ext cx="10080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4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增压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K003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运行正常：油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.42MP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出口压力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.91MP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流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18Nm3/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K00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K003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备用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日，氮气增压机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切换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运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612360" y="1638360"/>
            <a:ext cx="1101564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按常规，空压机运行一年至一年半左右，需进行维护保养，对叶轮进行污垢清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经与机动部对接，考虑文莱当地的空气质量和公司目前的经营形势，后续根据机组振动上升情况来决定是否停机保养：目前各机组各级振动均小于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μm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，若振动上升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5μm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时再进行保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要求设备人员日常对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台机组的振动监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标题 1"/>
          <p:cNvSpPr/>
          <p:nvPr/>
        </p:nvSpPr>
        <p:spPr>
          <a:xfrm>
            <a:off x="3529080" y="2862360"/>
            <a:ext cx="6119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、重要的设备故障处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6360" y="225360"/>
            <a:ext cx="1139652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</a:rPr>
              <a:t>HENGYI (BRUNEI) PMB PROJECT</a:t>
            </a:r>
            <a:br>
              <a:rPr sz="2400"/>
            </a:b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标题 1"/>
          <p:cNvSpPr/>
          <p:nvPr/>
        </p:nvSpPr>
        <p:spPr>
          <a:xfrm>
            <a:off x="731880" y="1062000"/>
            <a:ext cx="1122048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次灵活焦化小修重新开工后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循环水温度最高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3.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超工艺指标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。与厂家江苏海鸥对接，厂家建议考虑此前性能标定发现的风量未达标现象，可调整风叶角度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风量增大可降低循环水温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944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据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CS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显示，每天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后循环水温度到最高点后随气温逐步下降，故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0: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开始按计划对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台风机叶片角度进行调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9440" indent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考虑余量，将第一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FAN-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叶片角度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调整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启动时堵转时间超过设定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秒，风机启动电流从最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700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降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30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远超额定电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85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风机无法启动。后重新将风机叶片角度调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启动风机正常，运行电流从原先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45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上升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57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风量有所增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矩形 1"/>
          <p:cNvSpPr/>
          <p:nvPr/>
        </p:nvSpPr>
        <p:spPr>
          <a:xfrm>
            <a:off x="5498640" y="34452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重要的设备故障处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5T05:15:00Z</dcterms:created>
  <dc:creator>hhjt11</dc:creator>
  <dc:description/>
  <dc:language>en-US</dc:language>
  <cp:lastModifiedBy>admin</cp:lastModifiedBy>
  <dcterms:modified xsi:type="dcterms:W3CDTF">2020-04-10T02:11:01Z</dcterms:modified>
  <cp:revision>192</cp:revision>
  <dc:subject/>
  <dc:title>HENGYI (BRUNEI) PMB PROJECT   INTRODUCTION OF WASTEWATER TREATMENT PLA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